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260-2C95-405A-AD53-EDC4AB99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50F-C29B-4C69-9827-7055B2D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6723-83FF-4396-9F9B-C04FD9DB5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639-5509-4B0D-B723-CB2FC153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1F4-703E-4895-949C-35EC0440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83B-4E39-4706-91B9-66D11927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409-1F99-4B63-84E1-5E9A5997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359-2F52-40CE-9AD7-A3E4D644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DDA-E57E-46BE-8F60-50AEC8A5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D54-670D-47DC-ADE5-E857532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BC8-B505-437E-A83C-592757AF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886-4DD8-47F2-94D1-7139383B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929D-F66F-4BA6-9194-1CC8F713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itr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ro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-e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563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sont les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 toi, quel est ton cours favo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ton professeur favo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strict?  Qui est amusant?  Qui est intéress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cours est trop difficile?  Très fa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 ou diffi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 est stric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5181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ctivités s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éress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3887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facile ou diffic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rs est intéress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3057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54291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-17416" r="0" b="0"/>
          <a:stretch/>
        </p:blipFill>
        <p:spPr>
          <a:xfrm>
            <a:off x="2286000" y="2859120"/>
            <a:ext cx="518148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a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-e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411360"/>
            <a:ext cx="4038840" cy="30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esse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533412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’est quel cou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est le pr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34290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2:03:20Z</dcterms:created>
  <dc:creator>edill</dc:creator>
  <dc:description/>
  <dc:language>en-US</dc:language>
  <cp:lastModifiedBy>edill</cp:lastModifiedBy>
  <dcterms:modified xsi:type="dcterms:W3CDTF">2011-10-16T23:05:15Z</dcterms:modified>
  <cp:revision>6</cp:revision>
  <dc:subject/>
  <dc:title>Chapitre 2</dc:title>
</cp:coreProperties>
</file>